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45F-31EE-43A3-BCF1-8BB35147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53C-DFF1-45E9-A80C-6EAF36C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B0E-4408-44DA-9DB7-D29D232B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23F-543E-4502-8447-6F6F9DF5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C937-1EB6-4CEC-AABA-B17C33FC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EB11-F1B8-4CCC-BCF3-9D2226A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13EA-271F-4E73-B1B5-1C571CB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223-F34E-4366-BD5E-53FCFCE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901-893B-4CA4-94D4-E141884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52FE-6764-48C2-AA62-79C0A25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CA07-E553-467F-A360-0E96564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7F8-D8E3-4E3E-9089-7807464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0F5-78C5-4930-8EE2-0B6AE51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900D-EC2E-4B33-BE7E-F62C3E70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9D9B-5D73-4155-843C-E2B128A3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BF6-0013-475C-AEC1-D741ACEC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A907-A698-42C8-A053-03346C93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A33-8A12-49A0-B05E-7C41A18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CD7-D872-42A1-A6C3-0B22F10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528-F48A-4FD9-86DF-E3A76D18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476-7B03-415B-89F7-29B5146B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6F9-0D99-487F-BAFA-606B1B87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FCF-54CF-427E-B7D0-36CCAB6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6CC-05C4-4F3F-95BA-E690AF1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B4F-CDE1-43AC-80A5-9E7BF4892C1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87D-AAF6-4A5D-AAEA-18FA052882E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Bookman Old Style"/>
              </a:rPr>
              <a:t>Sneaky Sneaker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By: Blake Smit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Jesse L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Jen Fed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oodness Of Fit: Test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gather our data we used a systematic sample of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male exiting the cafete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tallied the number of males wearing each brand of sneaker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Nike / Adidas / New Balance / As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Etnies / Vans / Oth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o: The observed frequency distribution of sneaker brand preference of males fits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a: The observed frequency distribution of sneaker brand preference of males does not fit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expected distribution was 17.14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14400" y="2362320"/>
          <a:ext cx="4572000" cy="4140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ALE SNEAKER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ik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id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Balanc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ic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tni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n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715000" y="3276720"/>
          <a:ext cx="3200400" cy="2895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eck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ystematic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l Expected Counts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≥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14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BD21301_" descr=""/>
          <p:cNvPicPr/>
          <p:nvPr/>
        </p:nvPicPr>
        <p:blipFill>
          <a:blip r:embed="rId1"/>
          <a:stretch/>
        </p:blipFill>
        <p:spPr>
          <a:xfrm>
            <a:off x="838188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90720" y="2362320"/>
                <a:ext cx="7619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133720" y="3581280"/>
                <a:ext cx="5035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9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8862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df: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1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 Continued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Conclusion: We reject our Ho because the p-value is &lt;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=.0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have sufficient evidence that observed frequency distribution of sneaker brand preference of males does not fit the expected distributi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oodness Of Fit: Test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gather our data we used a systematic sample of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female exiting the cafeter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tallied the number of females wearing each brand of sneaker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Nike / Adidas / New Balance / As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Etnies / Vans / Oth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o: The observed frequency distribution of sneaker brand preference of females fits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a: The observed frequency distribution of sneaker brand preference of females does not fit the expected distrib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expected distribution was 17.14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14400" y="2362320"/>
          <a:ext cx="4572000" cy="4140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EMALE SNEAKER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ik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did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Balance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sic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tni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an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715000" y="3276720"/>
          <a:ext cx="3200400" cy="2895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eck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ystematic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l Expected Counts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≥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.14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BD21301_" descr=""/>
          <p:cNvPicPr/>
          <p:nvPr/>
        </p:nvPicPr>
        <p:blipFill>
          <a:blip r:embed="rId1"/>
          <a:stretch/>
        </p:blipFill>
        <p:spPr>
          <a:xfrm>
            <a:off x="838188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066680" y="2362320"/>
                <a:ext cx="77407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286000" y="3809880"/>
                <a:ext cx="4991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4191120" y="5029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df: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G.O.F. Test 2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 Continued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Conclusion: We fail to reject our Ho because our calculated p-value is &gt;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= .05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have sufficient evidence that the observed frequency distribution of sneaker brand preference among females fits the expected distribu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Study Descrip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did two different studies with sho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first was to test for association between gender and type of s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second was testing the observed frequency distribution of sneaker style compared to the expected frequency distributio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Male Sneaker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80880" y="2362320"/>
          <a:ext cx="91663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91663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Female Sneaker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04920" y="2514600"/>
          <a:ext cx="9144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14600"/>
                    <a:ext cx="9144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Male vs. Female Sneaker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8000" y="1744560"/>
          <a:ext cx="90295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44560"/>
                    <a:ext cx="90295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Our test showed that there was an association between gender and shoe typ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believe this is because certain shoe types are more socially acceptable for females to wear as opposed to males, and vice-vers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Goodness of Fit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Goodness of Fit femal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observed frequency distribution fits the expec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Goodness of Fit mal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The observed frequency distribution does not fit the expec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G.O.F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feel that males prefer the major name brand sneaks (Nike, Adidas) due to the influence of pop cultu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le athlete endors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otbal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Baseba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occ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Personal Conclusions: G.O.F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emales tended to be more evenly distributed in their choice of sneaker, therefore fitting the expected distributio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accredit this to the lack of major female endorsement among sneaker bra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found that it was simple to collect the data because the students were so concentrated as they exited the cafeteri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It was difficult to sample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person, but not impossib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were not surprised by our resul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Sources of Err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eas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Involuntary Human Err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ample Method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Not technically rand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Not everyone goes to lun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People in more than one lun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D-Lunch-Early Rele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Gym Hallw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Gym Clas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gather data for these tests we compiled a list of various shoe typ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Sneakers/Flip Flops/ Moccasins/ Boots/Clogs/Dress/Oth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…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and recorded the number of people wearing each type of sho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We recorded 30 males and 30 females from each lunch to total 120 males and 120 female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o make it random we only surveyed every 5</a:t>
            </a:r>
            <a:r>
              <a:rPr b="0" lang="en-US" sz="3200" spc="-1" strike="noStrike" baseline="30000">
                <a:solidFill>
                  <a:srgbClr val="003366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 student, so it was systemat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: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62120" y="2743200"/>
          <a:ext cx="8153280" cy="137160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295280"/>
                <a:gridCol w="1295280"/>
                <a:gridCol w="787680"/>
                <a:gridCol w="906480"/>
                <a:gridCol w="904680"/>
                <a:gridCol w="906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Sneake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Flip-Flop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Moccasi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Boo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Clog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Dr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276720" y="4572000"/>
          <a:ext cx="3124080" cy="182412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Chec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 Ind. S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Systemati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All Exp. Counts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 Unicode MS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No, but we’ll still continu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: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o: There is no association between gender and type of s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Ha: There is an association between gender and type of s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65080" y="4419720"/>
                <a:ext cx="7567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914400" y="5638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df = (rows – 1) x (columns – 1) = (2-1) x (7-1) = 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Test For Association: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66680" y="2362320"/>
                <a:ext cx="71629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066680" y="350532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nclusion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We reject our Ho because p-value &lt;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= 0.0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We have sufficient evidence that there is an association between gender and type of sho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684360" y="2187720"/>
          <a:ext cx="410688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87720"/>
                    <a:ext cx="41068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Shoe Preference - Percen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613400" y="2276640"/>
          <a:ext cx="4122720" cy="42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3400" y="2276640"/>
                    <a:ext cx="4122720" cy="42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ookman Old Style"/>
              </a:rPr>
              <a:t>Male vs. Female Shoe Prefer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2217600"/>
          <a:ext cx="811080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2217600"/>
                    <a:ext cx="8110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5:12:13Z</dcterms:created>
  <dc:creator>Mobile Lab 2</dc:creator>
  <dc:description/>
  <dc:language>en-US</dc:language>
  <cp:lastModifiedBy>Teacher</cp:lastModifiedBy>
  <dcterms:modified xsi:type="dcterms:W3CDTF">2007-06-06T15:18:15Z</dcterms:modified>
  <cp:revision>19</cp:revision>
  <dc:subject/>
  <dc:title>Sneaky Sneakers</dc:title>
</cp:coreProperties>
</file>